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B904-22DD-4DD7-AE59-3EFE7ACC5F2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A44A-631C-418E-9C6E-139D5B0058F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3830-BCF3-451E-B4A7-1646385270B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F5AB-F8A8-487E-AF88-E8EAC53E4A8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386B-FB5A-4CC2-9A6D-AC6FEACD424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AC837-944C-48CE-A573-E9E759BC26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7B8B7-8888-4337-AC2A-9B30AE1B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5550C-3179-411E-8A0F-56F7BC58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E8B73-2059-4040-B66E-2BE2B7D8ED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AAAE9-2613-48EE-AFB6-275D821F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59A49-0A8A-4C1D-9E77-0F320C6F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0A95B-EFE8-441F-908B-7EB68194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6B1D9-5CCB-4790-85ED-CC4618379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1CC52-A714-49A7-9C38-2A75A8F94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D442D-C38C-4BCE-BAB6-09E09AFB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7F617-4880-414A-9C59-E3D38E2F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EF1D8-AF43-44C4-9FEC-927BFCE5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D227-D4C7-4F64-B475-B6F5AC997FE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四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影响药物作用的因素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55640" y="148392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不同给药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途径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对药效产生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物耐受性、精神依赖和成瘾性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物不同剂型对药物吸收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机体方面对药效产生影响的因素有哪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护理老年患者用药的注意事项有哪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200" spc="-1" strike="noStrike">
                <a:solidFill>
                  <a:srgbClr val="ffffff"/>
                </a:solidFill>
                <a:latin typeface="华文新魏"/>
              </a:rPr>
              <a:t>药物方面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55640" y="1341360"/>
            <a:ext cx="7943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剂型：不同剂型影响药物吸收量和速率，从而影响药物作用快慢和强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药途径：不同给药途径能影响药效和起效快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相互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耐受性和依赖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机体方面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生理状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、营养状态、精神状态、遗传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病理状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饮食对药物作用的影响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时间药理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物节律对药物作用和体内过程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心理因素与用药关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老年人临床用药须知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人用药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老年人用药的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口服给药时，下列那种剂型吸收最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片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溶液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丸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散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胶囊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圆角矩形 1"/>
          <p:cNvSpPr/>
          <p:nvPr/>
        </p:nvSpPr>
        <p:spPr>
          <a:xfrm>
            <a:off x="1332000" y="1341360"/>
            <a:ext cx="6985080" cy="518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连续使用镇痛药一段时间后停药，患者出现烦躁不安，流泪出汗，腹痛呕吐，此现象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戒断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耐药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反跳现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后遗效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.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变态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肝功能不良患者在使用药物时，应适当采取下列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增加给药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增加药物剂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延长给药间隔时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缩短给药间隔时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减少给药种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56:54Z</dcterms:modified>
  <cp:revision>99</cp:revision>
  <dc:subject/>
  <dc:title>内科护理学</dc:title>
</cp:coreProperties>
</file>